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2A2-3B5A-496C-9C4E-6457F9B6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FD1-E8DF-484D-87EF-C3417B5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1DA-1E5C-4DF6-8D95-BC2698DC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D94-4345-4C44-A0E0-B55F2B3F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7D5-EEFB-4A07-87A0-A4BB2AF6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34F-263B-4D40-A87C-C7C88BED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7BE-AE70-47EC-9677-6B32BD29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82B-62A0-4BCA-BE44-34D2B38B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057-6FA7-44D7-A749-3AF9BDEB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0CE-F2BD-4110-A2F8-3442582C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5BC-0571-4EDF-AC3B-0384D5D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941-E053-408E-97B3-60B79F8C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370-8A91-4DF9-8C8E-2E7C4987A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371/XdkRaOwU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KkRaRvj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ckRaqE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QkRaRvj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FkRaRvj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ZkRaqEg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ukRaqEg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371/XekRaOwU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tkRKsUM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bkRKsUM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VkRaqEg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xkRKsUM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497/MOkRKJW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497/MPkRKJW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8820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0000"/>
                </a:solidFill>
                <a:latin typeface="Arial"/>
                <a:ea typeface="华文彩云"/>
              </a:rPr>
              <a:t>学会同情、关心、帮助别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垃圾堆旁的祖国花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07920"/>
            <a:ext cx="84247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看看我们的孩子在什么样的教室里上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901800"/>
            <a:ext cx="84247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中国最感人的图片——永不褪色的见证！"/>
          <p:cNvPicPr/>
          <p:nvPr/>
        </p:nvPicPr>
        <p:blipFill>
          <a:blip r:embed="rId1"/>
          <a:stretch/>
        </p:blipFill>
        <p:spPr>
          <a:xfrm>
            <a:off x="755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52560"/>
            <a:ext cx="4572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80000" y="144360"/>
            <a:ext cx="863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，您能让我继续上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12612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不起学费的女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1640" y="981000"/>
            <a:ext cx="8317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7280" y="620640"/>
            <a:ext cx="2916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在对生活叫苦的时候是否想过他们的童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-120600"/>
            <a:ext cx="547200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3480"/>
            <a:ext cx="4572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8160"/>
            <a:ext cx="4572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333360"/>
            <a:ext cx="853272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32360" y="5660640"/>
            <a:ext cx="38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写在前面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8200" y="1773000"/>
            <a:ext cx="7561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前，有许多同学觉得生活不如人意，活得苦闷、消沉。在他们眼中看不到生活的热情，体会不到人间的真爱，当然，他们也无法感知到人间的快乐、活着的幸福。那就请我们跟随着摄影家的镜头，走进他们的世界，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感受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到这，朋友，你对你的生活还有什麽不满足的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图片来源：http://img.pcpop.com/upimg3/2006Bak/8/31/0001766596.jpg"/>
          <p:cNvPicPr/>
          <p:nvPr/>
        </p:nvPicPr>
        <p:blipFill>
          <a:blip r:embed="rId1"/>
          <a:stretch/>
        </p:blipFill>
        <p:spPr>
          <a:xfrm>
            <a:off x="539640" y="1052640"/>
            <a:ext cx="8353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句话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want go to school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932040"/>
            <a:ext cx="511344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-14400"/>
            <a:ext cx="88930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生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老婆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她几乎没有力量的身体在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中国最感人的照片精粹"/>
          <p:cNvPicPr/>
          <p:nvPr/>
        </p:nvPicPr>
        <p:blipFill>
          <a:blip r:embed="rId1"/>
          <a:stretch/>
        </p:blipFill>
        <p:spPr>
          <a:xfrm>
            <a:off x="1989000" y="1052640"/>
            <a:ext cx="5319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终年在南方打工，年迈的祖母靠拾包装纸挣一点钱给孙子读书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当我们肆意挥霍着自己的青春和金钱，当我们在闲暇的时候高呼无聊的时候，有谁想起了他们呢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032360" cy="547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080" y="31050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1080" y="1413000"/>
            <a:ext cx="109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30320"/>
            <a:ext cx="66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爸爸：我来拉你一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756144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763040" y="174600"/>
            <a:ext cx="13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个双腿残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父亲和相依为命的孩子正在横穿马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孩子，爸爸的怀抱是你温暖的天堂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488000" cy="5473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69080" y="1743120"/>
            <a:ext cx="16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内蒙古街头一位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带着孩子正冒着风雪在街头叫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什麽叫做风雨同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图片来源：http://img.pcpop.com/upimg3/2006Bak/8/31/0001766675.jpg"/>
          <p:cNvPicPr/>
          <p:nvPr/>
        </p:nvPicPr>
        <p:blipFill>
          <a:blip r:embed="rId1"/>
          <a:stretch/>
        </p:blipFill>
        <p:spPr>
          <a:xfrm>
            <a:off x="179280" y="868320"/>
            <a:ext cx="89647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着这张照片你会怎么想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244000" cy="578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450640" y="442800"/>
            <a:ext cx="424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算盘斤两计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6720" y="836640"/>
            <a:ext cx="5472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手语叫眼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种行为叫漠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77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黔西小煤窑工人手脚并举将煤从洞中拉出，老板在旁察看磅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工作叫生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3760" y="981000"/>
            <a:ext cx="48546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的矿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一次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斤的煤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次一块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8720" y="1341360"/>
            <a:ext cx="770400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辛酸叫自食其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93614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种痛失叫奉献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—— 是一位西藏运输兵，军功章代表着他为祖国立下的汗马功劳， 可他连自己的妻子难产死亡都没来的及看上一眼。下跪， 在妻儿的墓前下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6624720" cy="4640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60520" y="213372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18111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中国最感人的照片精粹"/>
          <p:cNvPicPr/>
          <p:nvPr/>
        </p:nvPicPr>
        <p:blipFill>
          <a:blip r:embed="rId1"/>
          <a:stretch/>
        </p:blipFill>
        <p:spPr>
          <a:xfrm>
            <a:off x="1960560" y="-27000"/>
            <a:ext cx="52038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，我等你等了二十年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位悲痛的母亲是老山战士赵占英的母亲，今年清明期间，她由侄儿侄媳陪同来到云南麻粟坡烈士陵园看望牺牲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儿子。这是她第一次来陵园祭奠自己的儿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这位母亲来自昆明附近的蒿明县。近年来，当地政府专门拨款给一些烈士家属一笔祭奠费用，这位母亲才得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第一次前往边境为儿子上香。据麻粟坡烈士陵园管理人员介绍，麻粟坡烈士陵墓园埋葬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老山作战牺牲的烈士。其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位烈士的家属从来来过，大部分是因没有路费而不能前来，有些家属来到陵园竟没有路费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按此在新窗口浏览图片"/>
          <p:cNvPicPr/>
          <p:nvPr/>
        </p:nvPicPr>
        <p:blipFill>
          <a:blip r:embed="rId1"/>
          <a:stretch/>
        </p:blipFill>
        <p:spPr>
          <a:xfrm>
            <a:off x="34920" y="316080"/>
            <a:ext cx="9109080" cy="58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686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种童年叫辛酸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为了我给她照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特意借了个布书包，其实她的只是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克的奇强牌洗衣粉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916280"/>
            <a:ext cx="7416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6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577360" y="6308640"/>
            <a:ext cx="566640" cy="549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希望大家在人生的道路上要学会同情与帮助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549360"/>
            <a:ext cx="2087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总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饥饿叫无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25360"/>
            <a:ext cx="878544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090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悲伤叫无依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2920" y="-243000"/>
            <a:ext cx="532908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498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74680"/>
            <a:ext cx="10904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悲伤叫无依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74680"/>
            <a:ext cx="10904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感觉叫无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背影叫凄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79800" y="765000"/>
            <a:ext cx="49132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2:06:1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21:14Z</dcterms:modified>
  <cp:revision>30</cp:revision>
  <dc:subject>主题班会课件(分28大类): http://shop62905894.taobao.com</dc:subject>
  <dc:title>主题班会课件(分28大类): http://shop62905894.taobao.com</dc:title>
</cp:coreProperties>
</file>